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wind.wav" ContentType="audio/x-wav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3F0-F181-4616-AD6C-791562DE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671-94A6-4E5D-8878-DD2A755A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475-DF2F-471C-8586-FF798643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613-DF9D-463B-832E-B6C915DF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C0F-1312-41B1-8C9E-C460B378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E47-A5B6-44B8-830B-06C8B42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088-ED78-4CD6-A09B-D9640D23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EFD-CBC7-4471-8CB8-EE875562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436-7E70-4905-83EA-7333DE4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549-73DE-4766-9686-87D0E37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A8F-8114-4FCF-A94F-3B214C0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CC0-F539-4936-BD5E-3B67361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D30-FDC3-4C37-A26C-0D25AF84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rior Windmi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486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arrior Offshore Windm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leader in Windmill technology and offshore location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e Mendocino and Ripley – sister cities in the wind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rior Offshore Windmill Mod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tch – 30 deg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de Length – 14 i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ar – 4 i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wer – 1.56 wat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rior Wi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8076960" cy="549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y Warrior Windmill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able of providing 25% of California’s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te 750 watts of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Offsh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isfies energy needs without disrupting natural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s inland nois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e pollution, vibrations, and electromagnetic fields are of little concern to the marin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pe Mendoci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3803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e Mendocino, Calif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621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ape Mendoci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tinuously high wind speed due to the protruding land mass of the cape that deflects northerly winds, creating a local wind jet that blows year 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ocino’s 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124440" cy="191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8195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971800" cy="182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520" y="1752480"/>
            <a:ext cx="3276360" cy="20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5:28:34Z</dcterms:created>
  <dc:creator>OSU</dc:creator>
  <dc:description/>
  <dc:language>en-US</dc:language>
  <cp:lastModifiedBy>OSU</cp:lastModifiedBy>
  <dcterms:modified xsi:type="dcterms:W3CDTF">2008-07-17T20:02:49Z</dcterms:modified>
  <cp:revision>7</cp:revision>
  <dc:subject/>
  <dc:title>Slide 1</dc:title>
</cp:coreProperties>
</file>